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8A4-FDD7-4B3B-A51B-0D556A8C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289-04E0-42DE-89B3-D83D0125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95D-98AF-4592-A452-07A93CA2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120-50C1-4D24-BC96-852E19E7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97EA-56CA-4F25-8EE3-66679409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AB2C-8586-43F6-AFCC-E93A46CB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06F5-A541-440A-9534-78943FA9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348-2D7C-4577-B5FB-1AB5792F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C5A7-A11E-43EB-97CE-BBC45389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1126-6594-4821-BBCF-6DAC948A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44FD-7CB1-40EE-B8B7-44BD540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E4B-24F9-4543-B6CB-21653370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C94F-B697-4E41-BA5A-7011BDE0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D24B-EC94-4715-A336-790A153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4742-192F-4EA5-BD2D-D8B7F52B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A07F-9F57-47D7-861B-9F842346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69DB-C004-4A72-84EE-7413211F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9D3-CDC0-4983-9A29-61F533BE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766-2982-4860-B80F-23E6CD43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72B-B2A8-4811-8E76-E897312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3A2-CBDE-4026-8B26-762048A3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7E0-95EF-409C-AA65-4853AD74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89C-C8E2-4BFA-9BFC-1DD683E7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3DD-52AD-4F25-8EB8-9C63E8C0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DDF4-52DD-45BF-8085-D17828727F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E0ED-94AA-4086-A10A-A3DE2E44F4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914400" y="304920"/>
            <a:ext cx="7610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Животные степей, саванн и прерий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6324480" y="4724280"/>
            <a:ext cx="1791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полнил: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5486400" y="5257800"/>
            <a:ext cx="3219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ченик 7 "А" класса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5638680" y="5867280"/>
            <a:ext cx="3009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рютин Дмитри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yote"/>
          <p:cNvPicPr/>
          <p:nvPr/>
        </p:nvPicPr>
        <p:blipFill>
          <a:blip r:embed="rId1"/>
          <a:stretch/>
        </p:blipFill>
        <p:spPr>
          <a:xfrm>
            <a:off x="0" y="990720"/>
            <a:ext cx="4767120" cy="586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hunting-coyotes-using-dogs-01"/>
          <p:cNvPicPr/>
          <p:nvPr/>
        </p:nvPicPr>
        <p:blipFill>
          <a:blip r:embed="rId2"/>
          <a:stretch/>
        </p:blipFill>
        <p:spPr>
          <a:xfrm>
            <a:off x="5210280" y="3048120"/>
            <a:ext cx="3933720" cy="38098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990720" y="228600"/>
            <a:ext cx="2662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йот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7"/>
          <p:cNvSpPr txBox="1"/>
          <p:nvPr/>
        </p:nvSpPr>
        <p:spPr>
          <a:xfrm>
            <a:off x="4876920" y="228600"/>
            <a:ext cx="3971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нешне очень сильно похож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4876920" y="838080"/>
            <a:ext cx="2305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дворняж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7238880" y="838080"/>
            <a:ext cx="1905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размерам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4876920" y="1295280"/>
            <a:ext cx="42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йот сильно уступает волку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ronghorn_120607"/>
          <p:cNvPicPr/>
          <p:nvPr/>
        </p:nvPicPr>
        <p:blipFill>
          <a:blip r:embed="rId1"/>
          <a:stretch/>
        </p:blipFill>
        <p:spPr>
          <a:xfrm>
            <a:off x="228600" y="685800"/>
            <a:ext cx="4826160" cy="5918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ronghorn-002"/>
          <p:cNvPicPr/>
          <p:nvPr/>
        </p:nvPicPr>
        <p:blipFill>
          <a:blip r:embed="rId2"/>
          <a:stretch/>
        </p:blipFill>
        <p:spPr>
          <a:xfrm>
            <a:off x="5257800" y="2514600"/>
            <a:ext cx="3657600" cy="40892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6"/>
          <p:cNvSpPr txBox="1"/>
          <p:nvPr/>
        </p:nvSpPr>
        <p:spPr>
          <a:xfrm>
            <a:off x="1981080" y="0"/>
            <a:ext cx="222912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лорог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5010120" y="228600"/>
            <a:ext cx="4133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расивое,стройное живо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938840" y="609480"/>
            <a:ext cx="420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мерами схоже с нашей косулей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0016c8b53ff0a62962319"/>
          <p:cNvPicPr/>
          <p:nvPr/>
        </p:nvPicPr>
        <p:blipFill>
          <a:blip r:embed="rId1"/>
          <a:stretch/>
        </p:blipFill>
        <p:spPr>
          <a:xfrm>
            <a:off x="228600" y="2514600"/>
            <a:ext cx="350532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886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914400" y="914400"/>
            <a:ext cx="6058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громная равнина,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7" name="WordArt 8"/>
          <p:cNvSpPr txBox="1"/>
          <p:nvPr/>
        </p:nvSpPr>
        <p:spPr>
          <a:xfrm>
            <a:off x="7086600" y="990720"/>
            <a:ext cx="18288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ходяща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895480" y="1523880"/>
            <a:ext cx="4077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 горизонту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29" name="Picture 10" descr="DSC_0084"/>
          <p:cNvPicPr/>
          <p:nvPr/>
        </p:nvPicPr>
        <p:blipFill>
          <a:blip r:embed="rId2"/>
          <a:stretch/>
        </p:blipFill>
        <p:spPr>
          <a:xfrm>
            <a:off x="4038480" y="220968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4172497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8102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>
            <a:off x="1371600" y="0"/>
            <a:ext cx="7562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йгак-единственное копытное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1371600" y="457200"/>
            <a:ext cx="746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лекопитающее, живущее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3" name="WordArt 8"/>
          <p:cNvSpPr txBox="1"/>
          <p:nvPr/>
        </p:nvSpPr>
        <p:spPr>
          <a:xfrm>
            <a:off x="1371600" y="914400"/>
            <a:ext cx="52959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степях России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34" name="Picture 9" descr="379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16_1"/>
          <p:cNvPicPr/>
          <p:nvPr/>
        </p:nvPicPr>
        <p:blipFill>
          <a:blip r:embed="rId1"/>
          <a:stretch/>
        </p:blipFill>
        <p:spPr>
          <a:xfrm>
            <a:off x="0" y="10666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3733920" y="0"/>
            <a:ext cx="5410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изон-ближайший родственник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4724280" y="533520"/>
            <a:ext cx="16002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убра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1295280" y="228600"/>
            <a:ext cx="175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зо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9" descr="american-bison-45961"/>
          <p:cNvPicPr/>
          <p:nvPr/>
        </p:nvPicPr>
        <p:blipFill>
          <a:blip r:embed="rId2"/>
          <a:stretch/>
        </p:blipFill>
        <p:spPr>
          <a:xfrm>
            <a:off x="4724280" y="2647800"/>
            <a:ext cx="4419720" cy="42102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5943600" y="2895480"/>
            <a:ext cx="210996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убр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383"/>
          <p:cNvPicPr/>
          <p:nvPr/>
        </p:nvPicPr>
        <p:blipFill>
          <a:blip r:embed="rId1"/>
          <a:stretch/>
        </p:blipFill>
        <p:spPr>
          <a:xfrm>
            <a:off x="0" y="1038240"/>
            <a:ext cx="4800600" cy="54388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990720" y="228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акин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6"/>
          <p:cNvSpPr txBox="1"/>
          <p:nvPr/>
        </p:nvSpPr>
        <p:spPr>
          <a:xfrm>
            <a:off x="5334120" y="0"/>
            <a:ext cx="328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то одно из самых  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4943520" y="457200"/>
            <a:ext cx="42004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алоизученных копытных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6400800" y="838080"/>
            <a:ext cx="11145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мир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46" name="Picture 9" descr="275px-Sichuan_Takin_Juvenile_159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4"/>
          <p:cNvPicPr/>
          <p:nvPr/>
        </p:nvPicPr>
        <p:blipFill>
          <a:blip r:embed="rId1"/>
          <a:stretch/>
        </p:blipFill>
        <p:spPr>
          <a:xfrm>
            <a:off x="0" y="533520"/>
            <a:ext cx="4267080" cy="594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3505320" y="0"/>
            <a:ext cx="20574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ванн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343400" y="609480"/>
            <a:ext cx="3181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фриканская степь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" name="WordArt 8"/>
          <p:cNvSpPr txBox="1"/>
          <p:nvPr/>
        </p:nvSpPr>
        <p:spPr>
          <a:xfrm>
            <a:off x="4343400" y="1143000"/>
            <a:ext cx="2781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ртугальского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7315200" y="1066680"/>
            <a:ext cx="1266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значает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4648320" y="1600200"/>
            <a:ext cx="3333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степь с деревьями"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911-c8552a3a"/>
          <p:cNvPicPr/>
          <p:nvPr/>
        </p:nvPicPr>
        <p:blipFill>
          <a:blip r:embed="rId1"/>
          <a:stretch/>
        </p:blipFill>
        <p:spPr>
          <a:xfrm>
            <a:off x="0" y="1371600"/>
            <a:ext cx="4343400" cy="464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imals_Beasts_Lion_king_of_beasts_016447_"/>
          <p:cNvPicPr/>
          <p:nvPr/>
        </p:nvPicPr>
        <p:blipFill>
          <a:blip r:embed="rId2"/>
          <a:stretch/>
        </p:blipFill>
        <p:spPr>
          <a:xfrm>
            <a:off x="4495680" y="25909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56" name="WordArt 6"/>
          <p:cNvSpPr txBox="1"/>
          <p:nvPr/>
        </p:nvSpPr>
        <p:spPr>
          <a:xfrm>
            <a:off x="4038480" y="228600"/>
            <a:ext cx="1395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в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5638680" y="380880"/>
            <a:ext cx="2514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ый круп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4038480" y="914400"/>
            <a:ext cx="2181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 семейства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6400800" y="990720"/>
            <a:ext cx="1562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шачьих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heetah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default"/>
          <p:cNvPicPr/>
          <p:nvPr/>
        </p:nvPicPr>
        <p:blipFill>
          <a:blip r:embed="rId2"/>
          <a:stretch/>
        </p:blipFill>
        <p:spPr>
          <a:xfrm>
            <a:off x="4800600" y="3657600"/>
            <a:ext cx="4114800" cy="2819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6"/>
          <p:cNvSpPr txBox="1"/>
          <p:nvPr/>
        </p:nvSpPr>
        <p:spPr>
          <a:xfrm>
            <a:off x="3809880" y="228600"/>
            <a:ext cx="16909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пард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7"/>
          <p:cNvSpPr txBox="1"/>
          <p:nvPr/>
        </p:nvSpPr>
        <p:spPr>
          <a:xfrm>
            <a:off x="4572000" y="1066680"/>
            <a:ext cx="457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амое быстрое животное в мире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4648320" y="1523880"/>
            <a:ext cx="41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Его скорость свыше 100 км/ч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12626"/>
          <p:cNvPicPr/>
          <p:nvPr/>
        </p:nvPicPr>
        <p:blipFill>
          <a:blip r:embed="rId1"/>
          <a:stretch/>
        </p:blipFill>
        <p:spPr>
          <a:xfrm>
            <a:off x="228600" y="304920"/>
            <a:ext cx="484812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o13"/>
          <p:cNvPicPr/>
          <p:nvPr/>
        </p:nvPicPr>
        <p:blipFill>
          <a:blip r:embed="rId2"/>
          <a:stretch/>
        </p:blipFill>
        <p:spPr>
          <a:xfrm>
            <a:off x="5257800" y="3581280"/>
            <a:ext cx="365760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3581280" y="2286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рии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791320" y="457200"/>
            <a:ext cx="280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с франц.prairie-луг)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181480" y="990720"/>
            <a:ext cx="3962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ысокотравная растительность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5105520" y="1371600"/>
            <a:ext cx="4038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епного типа на черноземных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5105520" y="1676520"/>
            <a:ext cx="10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чвах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44:53Z</dcterms:created>
  <dc:creator>Jurist</dc:creator>
  <dc:description/>
  <dc:language>en-US</dc:language>
  <cp:lastModifiedBy>Жена_Мастера</cp:lastModifiedBy>
  <dcterms:modified xsi:type="dcterms:W3CDTF">2011-11-13T10:18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